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50D-ECF8-474E-B889-1D268E38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3F5-DA5B-48EA-A5C8-4054CD6F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2F2-B6C7-4B3C-B990-0D5AA222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3B9-6187-4E41-888D-433BBD26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DEB-FC6D-47EC-B7F1-328E1067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629-8866-4D06-864F-9E1DD6D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755-ACA5-48D5-96E6-DB5398AC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26C-DB08-461F-9676-0221A60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B68-266D-47C8-B256-136D886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318-406A-4599-AB59-065E43F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067-8C95-4360-A0DA-DE19F73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52E-8F82-49DC-BA07-802B103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EEE-2703-4F49-AD2D-7DC820C3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49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stributions for Quantitativ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04920" y="762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OT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04920" y="1295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every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Better for smaller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2438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counts (not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4920" y="3048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Examples: We’ve done a to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380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plitting 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228600" y="838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stemplot of the age guesses on you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hy is this not a good picture for th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28600" y="1981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e can split the stems to spread out clumped/cluste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28600" y="2971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hen we split the stems, each stem must have an equal number of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data points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228600" y="3962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stem for every 5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stem for every 2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 stem for ever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838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stemplot of the age guesses on your paper, but split the stems once (one stem for every 5 numb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2065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stemplot of the age guesses on your paper, but split the stems again (one stem for every 2 numb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228600" y="3429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stemplot of the age guesses on your paper, but split the stems again (one stem for every numb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8600" y="1371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scrib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3049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IS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838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groups of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9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Good for all size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4920" y="1981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an show counts (#) and rat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4920" y="2590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TO M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04920" y="3048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ook at range of data, understand data &amp; decide on classes to break data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4038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ount # of individuals in ea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04920" y="45720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his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x-axis = classes (no 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y-axis = count or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bars for ea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30492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low are the GPAs for students in a senior AP English class.  Create a histogram (use cou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.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04920"/>
            <a:ext cx="815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following is data on the total SAT score (math and verbal) for numerous students in a Spanish class.  Create a histogram (use 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5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6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5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4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5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6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1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3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7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3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4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4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7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2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4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5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20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0" y="1295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Using the calcu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reating a hist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TEM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838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every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Better for smaller set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1981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hows counts (not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2590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TO M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3124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Separate each observation into a stem and a leaf (the last digit of the ob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04920" y="4054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rite all stems in the range of data (including ones with no data) in a vertical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04920" y="4968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Create a vertica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04920" y="55022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rite each leaf to the right of its stem, in increasing order out from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28600" y="2286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low are test scores on the Chapter 4 te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stemplot of the sc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4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3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7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ack to back stem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228600" y="7621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Used to compare two similar sets of data in stem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28600" y="3195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OW TO M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28600" y="3728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ook at both sets of stems- find TOTAL rang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28600" y="42624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ist stems in middle, put vertical lin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28600" y="4795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Label each side with the name of the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28600" y="5329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* Write each set of data outward from the stems, i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2860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Example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be Ruth’s homerun totals each season for the Yanke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4, 59, 35, 41, 46, 25, 47, 60, 54, 46, 49, 41, 34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oger Maris’ homerun totals for the Yanke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8, 13, 23, 33, 28, 16, 14, 39, 26,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ack-to-Back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stem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23:39:01Z</dcterms:created>
  <dc:creator>Lauren Senske</dc:creator>
  <dc:description/>
  <dc:language>en-US</dc:language>
  <cp:lastModifiedBy>Lauren Senske</cp:lastModifiedBy>
  <dcterms:modified xsi:type="dcterms:W3CDTF">2009-10-08T17:04:56Z</dcterms:modified>
  <cp:revision>13</cp:revision>
  <dc:subject/>
  <dc:title>Slide 1</dc:title>
</cp:coreProperties>
</file>